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10B-FCB3-45C6-B7C2-AE24EB39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9F5-7774-4DA6-AB3C-F9305A0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E8A-2C2A-4CC3-A758-B6FDB92E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2FD-B9D0-4E21-B41D-96D70B0F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0C5-1B52-4E9D-B4AE-36710CE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A9C-4EAC-4B2D-9DA2-F431B65F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A01-AB54-4B63-A131-FBEDC8C7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602-0075-4271-B922-75F7C27C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301-C411-430C-B34B-044D248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1A3-5118-4CC3-B9D0-3F5F625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3E6-AE41-495D-97DA-F8F28F6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BE6-79AB-45A9-9F67-D9E5277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550-EE93-4FB8-AE6D-FC08365C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9 Vzácnym chle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ym chlebom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ýť vždy hladné duš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láska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ou tvojho Ducha p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be prameň spásy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teba sa spolieha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mi schopnosť nemá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bre myslieť, vravieť, ro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ým ti ruku ned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si nás mohol vod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ým nám myseľ neosv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š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áš, Duch tvoj Svätý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blesk slávy Otco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a sveta od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srdcia hotov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tajú ťa v úprimn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ech Slovo, čo dnes za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inesie nám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5:26Z</dcterms:modified>
  <cp:revision>22</cp:revision>
  <dc:subject/>
  <dc:title>Je veľký náš Pán, on slávy je Kráľ Nech do všetkých strán  spev vrúcnych znie chvál.</dc:title>
</cp:coreProperties>
</file>